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9B741-A33E-4718-9B55-55682A6C7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3FEB1-9C70-4B09-BDE2-3228EEC2A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D447C-465B-42E9-9C12-5158FDB8A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23095-07F5-48A0-9134-39E719332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A95D2-DA4F-49B9-BC88-2014DFA56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4FBC5-667B-4F54-B29F-F704DD3FE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42DCB-0EB5-4EBE-BD54-2053FACA0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52485-692A-4727-BE37-BFDCE139E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1F861-F852-48BD-9793-5616DC454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0687A-4AA1-4C2E-B948-6510AFEDD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D1047-7047-4836-90E9-14A013AC8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96F8-4A8B-4A86-97E6-D353E7010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9E481-277A-4876-8CE7-C0CC43AF4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BF25A-DD54-4E0A-8DCA-CA30F877F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BCA00-10AA-4313-84C7-9A64C72B5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89F65-E23D-4E14-9F23-A0D2CE5FD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361BD-7240-4CB0-BACE-4DFA9D936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C751B1-A1FA-4602-9175-C46270D109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140125-74AD-431B-B7BC-5A8F1F1CA2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AF4C9A-F5AA-4975-9D10-9712141EE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DF7B23-1D6D-4DC4-8C99-6051C565F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A184C5-310D-427C-ACAA-5CCD784DE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F88C2-5BA5-46B7-B4A8-B94CC3A0E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55766-13AA-4545-ADE3-63587299E6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E0FD8-2828-4852-A1B4-DE04D94E2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19BE5A-0BED-485B-80FC-D9DE474AB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38B39-462F-4C16-8BBE-54863DF08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67893-DEB8-45CA-9444-3CB20BC21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744F43-D185-462D-91DA-5BC8E2EE2D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8EEE6C-7330-4496-9707-9D835623C6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9ECA3-1A28-4A12-94AF-338E0899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991A1-685B-4715-B361-00564CEC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CF605-8261-4354-B4D1-A054AAF1F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FCF87-AD68-4CB8-9425-D7F20FE55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7D572-B509-4707-864C-03BEF71CC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A2AD-5437-44FE-9CF2-9C2ACBF76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2984-4B09-4561-B0C4-A6CB1748DAB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7"/>
          <p:cNvGrpSpPr/>
          <p:nvPr/>
        </p:nvGrpSpPr>
        <p:grpSpPr>
          <a:xfrm>
            <a:off x="914400" y="1407960"/>
            <a:ext cx="231840" cy="225720"/>
            <a:chOff x="914400" y="1407960"/>
            <a:chExt cx="231840" cy="225720"/>
          </a:xfrm>
        </p:grpSpPr>
        <p:pic>
          <p:nvPicPr>
            <p:cNvPr id="56" name="Oval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D71C-239E-49C4-85EC-A5AF9149605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C2BC-3359-42C8-99B9-C9FE8D6C640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560" y="1143000"/>
            <a:ext cx="740700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Final Project </a:t>
            </a:r>
            <a:br>
              <a:rPr sz="4800"/>
            </a:br>
            <a:r>
              <a:rPr b="0" lang="en-US" sz="4800" spc="-1" strike="noStrike">
                <a:solidFill>
                  <a:srgbClr val="572314"/>
                </a:solidFill>
                <a:latin typeface="Gill Sans MT"/>
              </a:rPr>
              <a:t>Standardized Testing and Cheating</a:t>
            </a:r>
            <a:endParaRPr b="0" lang="en-US" sz="4800" spc="-1" strike="noStrike">
              <a:solidFill>
                <a:srgbClr val="572314"/>
              </a:solidFill>
              <a:latin typeface="Gill Sans MT"/>
            </a:endParaRPr>
          </a:p>
        </p:txBody>
      </p:sp>
      <p:sp>
        <p:nvSpPr>
          <p:cNvPr id="142" name="PlaceHolder 2"/>
          <p:cNvSpPr>
            <a:spLocks noGrp="1"/>
          </p:cNvSpPr>
          <p:nvPr>
            <p:ph type="subTitle"/>
          </p:nvPr>
        </p:nvSpPr>
        <p:spPr>
          <a:xfrm>
            <a:off x="1371600" y="3580920"/>
            <a:ext cx="7407360" cy="1752840"/>
          </a:xfrm>
          <a:prstGeom prst="rect">
            <a:avLst/>
          </a:prstGeom>
          <a:noFill/>
          <a:ln w="0">
            <a:noFill/>
          </a:ln>
        </p:spPr>
        <p:txBody>
          <a:bodyPr lIns="90000" rIns="90000" tIns="0" bIns="4680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0e04"/>
                </a:solidFill>
                <a:latin typeface="Gill Sans MT"/>
              </a:rPr>
              <a:t>By: Group 4</a:t>
            </a:r>
            <a:endParaRPr b="0" lang="en-US" sz="4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ummary of Local and Regional Articles</a:t>
            </a:r>
            <a:endParaRPr b="0" lang="en-US" sz="3900" spc="-1" strike="noStrike">
              <a:solidFill>
                <a:srgbClr val="572314"/>
              </a:solidFill>
              <a:latin typeface="Gill Sans MT"/>
            </a:endParaRPr>
          </a:p>
        </p:txBody>
      </p:sp>
      <p:sp>
        <p:nvSpPr>
          <p:cNvPr id="16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400" spc="-1" strike="noStrike">
                <a:solidFill>
                  <a:srgbClr val="000000"/>
                </a:solidFill>
                <a:latin typeface="Gill Sans MT"/>
              </a:rPr>
              <a:t>Has cheating on the SOL tests occurred near us?  </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Unfortunately, the answer is yes.  It has occurred recently in Montgomery County and at William Fleming High School.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At William Fleming, the administrator, Susan Willis, was let go by the school board.  She denied any wrong-doing, but was accused of switching students around to help test scores.  Ms. Willis had the option to release the record from her closed hearings, but declined to do so.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 Montgomery County, Nelson Simpkins allegedly switched students around to less rigorous classes when he thought these students would lower test scores.  He talked to teachers and counselors about the students who might not pass the SOL tests and then switched their course registration so they would not have to take the test.  Sometimes, however, they remained in the same classroom, but under a different registration.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ummary of State and Federal Articles</a:t>
            </a:r>
            <a:endParaRPr b="0" lang="en-US" sz="3900" spc="-1" strike="noStrike">
              <a:solidFill>
                <a:srgbClr val="572314"/>
              </a:solidFill>
              <a:latin typeface="Gill Sans MT"/>
            </a:endParaRPr>
          </a:p>
        </p:txBody>
      </p:sp>
      <p:sp>
        <p:nvSpPr>
          <p:cNvPr id="16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gislation passed by Virginia General Assembly (22.1-19.1 Actions for violations of test security procedures and 22.1-292.1 Violation of test security procedures: revocation of license) regarding the repercussions of violating test security.  See test security guidelines.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gislation 22.1-19.1</a:t>
            </a:r>
            <a:endParaRPr b="0" lang="en-US" sz="4300" spc="-1" strike="noStrike">
              <a:solidFill>
                <a:srgbClr val="572314"/>
              </a:solidFill>
              <a:latin typeface="Gill Sans MT"/>
            </a:endParaRPr>
          </a:p>
        </p:txBody>
      </p:sp>
      <p:sp>
        <p:nvSpPr>
          <p:cNvPr id="166"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rmitting unauthorized access to secure test questions prior to testing.</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pying or reproducing all or any portion of any secure test booklet.</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ivulging the contents of any portion of a secure test.</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ltering test materials or examinees’ responses in any way.</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reating or making available answer keys to secure tests.</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king a false certification on the test security form established by the DOE; or participating in, directing, aiding or abetting, or assisting in any of the acts prohibited in this section. </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olating any of the above may give cause for civil penalty.</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Legislation 22.1-292.1: Violation of test security procedures; revocation of license</a:t>
            </a:r>
            <a:endParaRPr b="0" lang="en-US" sz="2800" spc="-1" strike="noStrike">
              <a:solidFill>
                <a:srgbClr val="572314"/>
              </a:solidFill>
              <a:latin typeface="Gill Sans MT"/>
            </a:endParaRPr>
          </a:p>
        </p:txBody>
      </p:sp>
      <p:sp>
        <p:nvSpPr>
          <p:cNvPr id="168" name=""/>
          <p:cNvSpPr txBox="1"/>
          <p:nvPr/>
        </p:nvSpPr>
        <p:spPr>
          <a:xfrm>
            <a:off x="1434960" y="1447560"/>
            <a:ext cx="7499520" cy="4800600"/>
          </a:xfrm>
          <a:prstGeom prst="rect">
            <a:avLst/>
          </a:prstGeom>
          <a:noFill/>
          <a:ln w="0">
            <a:noFill/>
          </a:ln>
        </p:spPr>
        <p:txBody>
          <a:bodyPr lIns="90000" rIns="90000" tIns="46800" bIns="46800"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Giving unauthorized access to secure test questions. </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pying or reproducing all or any portion of any secure test booklet.</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ivulging the contents of any portion of a secure test.</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aching or assisting examinees’ during testing or altering test materials or examinees’ responses in any way.</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king available any answer keys.</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Failing to follow test security procedures established by the DOE.</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roviding a false certification on any test security form required by the DOE.</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taining a copy of secure test questions; and </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articipating in, directing, aiding, assisting in, or encouraging any of the acts prohibited by this section.  </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erview</a:t>
            </a:r>
            <a:endParaRPr b="0" lang="en-US" sz="4300" spc="-1" strike="noStrike">
              <a:solidFill>
                <a:srgbClr val="572314"/>
              </a:solidFill>
              <a:latin typeface="Gill Sans MT"/>
            </a:endParaRPr>
          </a:p>
        </p:txBody>
      </p:sp>
      <p:sp>
        <p:nvSpPr>
          <p:cNvPr id="170" name=""/>
          <p:cNvSpPr txBox="1"/>
          <p:nvPr/>
        </p:nvSpPr>
        <p:spPr>
          <a:xfrm>
            <a:off x="1371240" y="1218960"/>
            <a:ext cx="7543800" cy="5105160"/>
          </a:xfrm>
          <a:prstGeom prst="rect">
            <a:avLst/>
          </a:prstGeom>
          <a:noFill/>
          <a:ln w="0">
            <a:noFill/>
          </a:ln>
        </p:spPr>
        <p:txBody>
          <a:bodyPr lIns="90000" rIns="90000" tIns="46800" bIns="46800"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MT"/>
              </a:rPr>
              <a:t> </a:t>
            </a:r>
            <a:endParaRPr b="0" lang="en-US" sz="8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terview with Chuck Thompson, principal </a:t>
            </a:r>
            <a:endParaRPr b="0" lang="en-US" sz="16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cademic Cheating Interview</a:t>
            </a:r>
            <a:endParaRPr b="0" lang="en-US" sz="16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  Why do you think teachers would cheat on a high stakes test?</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Teachers would do this because they feel pressure just as students do.  A student's performance on these tests is sometimes seen as an indicator of what kind of teacher one is.</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  How did someone cheating affect your school?</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It affected the school because it brings negative attention to your school.  However, if handled correctly can be turned into a positive because people should see that you are handling the situation, as it should be.</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  How did it affect your job as an administrator?</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It is never easy to dismiss anyone from his or her job.  The person liked kids and liked her job but made a poor choice.  Once the person admitted to the wrongdoing then the decision was easy to make because of the seriousness of the incident.</a:t>
            </a: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  How did you deal with the situation?</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The teacher was questioned and upon admitting it was escorted from the building.  The teacher lost her license as a result of the incident.</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5.  Did you contact Central Office?  How many people from there did you talk to?</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Yes.  There were at least three people who were involved in the discussion.</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MT"/>
              </a:rPr>
              <a:t> </a:t>
            </a:r>
            <a:endParaRPr b="0" lang="en-US" sz="8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erview continued</a:t>
            </a:r>
            <a:endParaRPr b="0" lang="en-US" sz="4300" spc="-1" strike="noStrike">
              <a:solidFill>
                <a:srgbClr val="572314"/>
              </a:solidFill>
              <a:latin typeface="Gill Sans MT"/>
            </a:endParaRPr>
          </a:p>
        </p:txBody>
      </p:sp>
      <p:sp>
        <p:nvSpPr>
          <p:cNvPr id="17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  Was the media contacted?</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I do not recall.</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  Did you have a meeting with the Faculty?  If so a brief description of what was said?</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A reminder of proper protocol and procedures was discussed.  </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  How did you resolve the issue of someone cheating in your school?</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Interviewed proctor, teacher, and students.  Contacted DOE to notify and awaited their response.  Contacted central office and notified the DDOT, personnel director, and superintendent.  Students were given the opportunity to re-take the test.  Teacher was dismissed.  </a:t>
            </a:r>
            <a:endParaRPr b="0"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  Did you contact the parents of the students involved?</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Yes.</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  Did the students re-take the test?</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Yes.  This occurred after contact with DOE.</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mary of Blog Responses</a:t>
            </a:r>
            <a:endParaRPr b="0" lang="en-US" sz="4300" spc="-1" strike="noStrike">
              <a:solidFill>
                <a:srgbClr val="572314"/>
              </a:solidFill>
              <a:latin typeface="Gill Sans MT"/>
            </a:endParaRPr>
          </a:p>
        </p:txBody>
      </p:sp>
      <p:sp>
        <p:nvSpPr>
          <p:cNvPr id="174"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he main reason for cheating is the intense pressure that is put on high stakes tests.</a:t>
            </a:r>
            <a:endParaRPr b="0" lang="en-US" sz="27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School accreditation relies largely on these tests which is also linked to federal dollars. If a school does not receive the funding from the government then the school must cut needed instructional materials, extra-curricular activities and possibly instructional jobs.</a:t>
            </a:r>
            <a:endParaRPr b="0" lang="en-US" sz="27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s an educational leader it is your ethical and civil duty to report any violations of cheating that occur. </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7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 How will “your problem” impact your work as new school Leader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s a new school leader I would have to be held accountable for cheating in the building   of any teacher, not just in one classroom.  I would need to monitor testing activity to make sure all of the procedures are being implemented correctly and that nothing suspicious is occurring.  If a problem does arise I would need to immediately report it to Central Office and the Department of Education. </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a:t>
            </a:r>
            <a:r>
              <a:rPr b="0" lang="en-US" sz="3200" spc="-1" strike="noStrike">
                <a:solidFill>
                  <a:srgbClr val="000000"/>
                </a:solidFill>
                <a:latin typeface="Times New Roman"/>
                <a:ea typeface="Times New Roman"/>
              </a:rPr>
              <a:t> </a:t>
            </a:r>
            <a:r>
              <a:rPr b="0" lang="en-US" sz="3200" spc="-1" strike="noStrike">
                <a:solidFill>
                  <a:srgbClr val="000000"/>
                </a:solidFill>
                <a:latin typeface="Calibri"/>
                <a:ea typeface="Times New Roman"/>
              </a:rPr>
              <a:t>How will “your problem” impact the role of teachers who work with students with disabilitie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eachers who are testing students with disabilities will need to be sure that they have  read and understand that child's IEP in order to carry out all of the testing accommodations correctl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ea typeface="Times New Roman"/>
              </a:rPr>
              <a:t>C. </a:t>
            </a:r>
            <a:r>
              <a:rPr b="0" lang="en-US" sz="2800" spc="-1" strike="noStrike">
                <a:solidFill>
                  <a:srgbClr val="000000"/>
                </a:solidFill>
                <a:latin typeface="Calibri"/>
                <a:ea typeface="Times New Roman"/>
              </a:rPr>
              <a:t>Which ISSLC’s can help you improve the issues associated with “your problem” and why?</a:t>
            </a:r>
            <a:endParaRPr b="0" lang="en-US" sz="28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4 Steward a Vision</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s demonstrate an understanding of the role effective communication skills play in building a shared commitment to the vision.</a:t>
            </a:r>
            <a:r>
              <a:rPr b="1" lang="en-US" sz="2000" spc="-1" strike="noStrike">
                <a:solidFill>
                  <a:srgbClr val="000000"/>
                </a:solidFill>
                <a:latin typeface="Calibri"/>
              </a:rPr>
              <a:t> </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3 Apply Best Practice to Student Learning</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s demonstrate the ability to assist school personnel in understanding and applying best practices for student learning.</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000" spc="-1" strike="noStrike">
                <a:solidFill>
                  <a:srgbClr val="000000"/>
                </a:solidFill>
                <a:latin typeface="Calibri"/>
              </a:rPr>
              <a:t>2.4 Design Comprehensive Professional Growth Plans</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s design and demonstrate an ability to implement well-planned, context-appropriate professional development programs based on reflective practice and research on student learning consistent with the school vision and goals.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y Do Teachers/Principals Cheat on High Stakes Tests?</a:t>
            </a:r>
            <a:endParaRPr b="0" lang="en-US" sz="4300" spc="-1" strike="noStrike">
              <a:solidFill>
                <a:srgbClr val="572314"/>
              </a:solidFill>
              <a:latin typeface="Gill Sans MT"/>
            </a:endParaRPr>
          </a:p>
        </p:txBody>
      </p:sp>
      <p:sp>
        <p:nvSpPr>
          <p:cNvPr id="144" name="PlaceHolder 2"/>
          <p:cNvSpPr>
            <a:spLocks noGrp="1"/>
          </p:cNvSpPr>
          <p:nvPr>
            <p:ph type="subTitle"/>
          </p:nvPr>
        </p:nvSpPr>
        <p:spPr>
          <a:xfrm>
            <a:off x="1371600" y="2362320"/>
            <a:ext cx="7407360" cy="175248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Teachers and administrators choose to cheat on high stakes tests in order to achieve higher test scores as mandated by the “No Child Left Behind Act” (NCL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continued:</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1 Acts with Integrity</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idates demonstrate a respect for the rights of others with regard to confidentiality and dignity and engage in honest interactions. </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2 Acts Fairly</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idates demonstrate the ability to combine impartiality, sensitivity to student diversity, and ethical considerations in their interactions with others. </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3 Acts Ethically</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idates make and explain decisions based upon ethical and legal principl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 continued </a:t>
            </a:r>
            <a:endParaRPr b="0" lang="en-US" sz="20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 an administrator, one must first have a plan of action that aligns with the schools vision when it comes to administering high stakes tests.  He must continue to set high standards for his staff and students while keeping a two way line of communication between them.  He should create a good rapport with his faculty in such a way that they will feel comfortable maintaining the schools vision with a sense of support from their leader.  Showing his staff that he understands the importance of the tests and that he is also as responsible for the scores will aide with a sense of accountability for their actions when administering tests.  An effective educational leader will also provide sufficient professional growth activities that would reinforce the importance of administering these tests fairly and ethically.</a:t>
            </a:r>
            <a:endParaRPr b="0" lang="en-US" sz="20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7499520" cy="434340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 </a:t>
            </a:r>
            <a:r>
              <a:rPr b="1" lang="en-US" sz="2000" spc="-1" strike="noStrike">
                <a:solidFill>
                  <a:srgbClr val="000000"/>
                </a:solidFill>
                <a:latin typeface="Calibri"/>
                <a:ea typeface="Times New Roman"/>
              </a:rPr>
              <a:t>How can the implementation of technology assist you in reducing the threat to the loss of instructional time/focus because of “your problem”?</a:t>
            </a:r>
            <a:endParaRPr b="0" lang="en-US" sz="20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tilizing online testing for these high stakes tests can reduce the tendencies to cheat.  The online testing provides an audio accommodation that takes the place of the teacher read aloud accommodation for IEP students.  Although this does not eliminate the cheating possibilities completely, this technology seems to aide in alleviating cheating possibilities.  In terms of reducing the threat of the loss of instruction, other than cameras in the testing area there would be no way to utilize technology to reduce cheating without face to face meetings</a:t>
            </a:r>
            <a:r>
              <a:rPr b="0" lang="en-US" sz="2800" spc="-1" strike="noStrike">
                <a:solidFill>
                  <a:srgbClr val="000000"/>
                </a:solidFill>
                <a:latin typeface="Calibri"/>
                <a:ea typeface="Times New Roman"/>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692280" indent="-609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 As an assistant principal or principal how can you help resolve the issues identified in your problem not only in your school but within the school division and school division leadership?</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692280" indent="-60984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phold a high moral standard as an administrator, which is inline with your school’s vision.</a:t>
            </a:r>
            <a:endParaRPr b="0" lang="en-US" sz="2000" spc="-1" strike="noStrike">
              <a:solidFill>
                <a:srgbClr val="000000"/>
              </a:solidFill>
              <a:latin typeface="Gill Sans MT"/>
            </a:endParaRPr>
          </a:p>
          <a:p>
            <a:pPr marL="692280" indent="-60984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king students and teachers accountable for being ethically sound as members of each school.</a:t>
            </a:r>
            <a:endParaRPr b="0" lang="en-US" sz="2000" spc="-1" strike="noStrike">
              <a:solidFill>
                <a:srgbClr val="000000"/>
              </a:solidFill>
              <a:latin typeface="Gill Sans MT"/>
            </a:endParaRPr>
          </a:p>
          <a:p>
            <a:pPr marL="692280" indent="-60984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reate or use the policy for academic dishonesty.  Make sure there is information about high stakes testing and the consequences for cheating.</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 </a:t>
            </a: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692280" indent="-609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 continued</a:t>
            </a:r>
            <a:endParaRPr b="0" lang="en-US" sz="3200" spc="-1" strike="noStrike">
              <a:solidFill>
                <a:srgbClr val="000000"/>
              </a:solidFill>
              <a:latin typeface="Gill Sans MT"/>
            </a:endParaRPr>
          </a:p>
          <a:p>
            <a:pPr marL="69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istent fair action with all parties involved with academic cheating.</a:t>
            </a:r>
            <a:endParaRPr b="0" lang="en-US" sz="24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nitive action for teachers and students that are not upholding the academic honesty policy. </a:t>
            </a:r>
            <a:endParaRPr b="0" lang="en-US" sz="24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mmunicate with other administrators in the school division about the policy and reactions to academic dishonesty, particularly with testing.</a:t>
            </a:r>
            <a:endParaRPr b="0" lang="en-US" sz="2400" spc="-1" strike="noStrike">
              <a:solidFill>
                <a:srgbClr val="000000"/>
              </a:solidFill>
              <a:latin typeface="Gill Sans MT"/>
            </a:endParaRPr>
          </a:p>
          <a:p>
            <a:pPr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fontScale="96000"/>
          </a:bodyPr>
          <a:p>
            <a:pPr marL="664560" indent="-5853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F. How will you communicate to all stakeholders “your problem” and your recommendation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664560" indent="-58536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 would like to involve the community stakeholders with making and upholding the policy with academic dishonesty and high stakes testing.  Collaboration is essential for a successful school and community relationship.</a:t>
            </a:r>
            <a:endParaRPr b="0" lang="en-US" sz="2000" spc="-1" strike="noStrike">
              <a:solidFill>
                <a:srgbClr val="000000"/>
              </a:solidFill>
              <a:latin typeface="Gill Sans MT"/>
            </a:endParaRPr>
          </a:p>
          <a:p>
            <a:pPr marL="664560" indent="-58536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 think expressing what is going on with this “problem” with stakeholders is important to do.  Stakeholders need to be aware of the situation and what the reaction is going to be from the administration.  </a:t>
            </a:r>
            <a:endParaRPr b="0" lang="en-US" sz="2000" spc="-1" strike="noStrike">
              <a:solidFill>
                <a:srgbClr val="000000"/>
              </a:solidFill>
              <a:latin typeface="Gill Sans MT"/>
            </a:endParaRPr>
          </a:p>
          <a:p>
            <a:pPr marL="664560" indent="-58536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Times New Roman"/>
              </a:rPr>
              <a:t>I believe in the forward and honest approach is the best to use in this situatio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9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692280" indent="-609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 continued.</a:t>
            </a:r>
            <a:endParaRPr b="0" lang="en-US" sz="3200" spc="-1" strike="noStrike">
              <a:solidFill>
                <a:srgbClr val="000000"/>
              </a:solidFill>
              <a:latin typeface="Gill Sans MT"/>
            </a:endParaRPr>
          </a:p>
          <a:p>
            <a:pPr marL="69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ing media outlets would help in getting the word out about the problem, and expressing the schools or school division’s action is important.  With the up-most anonymity for the parties involved. </a:t>
            </a:r>
            <a:endParaRPr b="0" lang="en-US" sz="20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Times New Roman"/>
              </a:rPr>
              <a:t>Any type of decisions that affect the students and faculty should also be communicated with stakeholders, because the community is also being affected.</a:t>
            </a: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ibliography:</a:t>
            </a:r>
            <a:endParaRPr b="0" lang="en-US" sz="4300" spc="-1" strike="noStrike">
              <a:solidFill>
                <a:srgbClr val="572314"/>
              </a:solidFill>
              <a:latin typeface="Gill Sans MT"/>
            </a:endParaRPr>
          </a:p>
        </p:txBody>
      </p:sp>
      <p:sp>
        <p:nvSpPr>
          <p:cNvPr id="19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asey, Dan. "Gaming the SOL system a dangerous gamble - Roanoke.com." </a:t>
            </a:r>
            <a:r>
              <a:rPr b="0" i="1" lang="en-US" sz="2200" spc="-1" strike="noStrike">
                <a:solidFill>
                  <a:srgbClr val="000000"/>
                </a:solidFill>
                <a:latin typeface="Gill Sans MT"/>
              </a:rPr>
              <a:t>Roanoke.com: Breaking news, sports and weather from The Roanoke Times newspaper</a:t>
            </a:r>
            <a:r>
              <a:rPr b="0" lang="en-US" sz="2200" spc="-1" strike="noStrike">
                <a:solidFill>
                  <a:srgbClr val="000000"/>
                </a:solidFill>
                <a:latin typeface="Gill Sans MT"/>
              </a:rPr>
              <a:t>. N.p., n.d. Web. 14 Oct. 2010. &lt;http://www.roanoke.com/columnist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Former Montgomery principal needs to go - Roanoke.com." </a:t>
            </a:r>
            <a:r>
              <a:rPr b="0" i="1" lang="en-US" sz="2200" spc="-1" strike="noStrike">
                <a:solidFill>
                  <a:srgbClr val="000000"/>
                </a:solidFill>
                <a:latin typeface="Gill Sans MT"/>
              </a:rPr>
              <a:t>Roanoke.com: Breaking news, sports and weather from The Roanoke Times newspaper</a:t>
            </a:r>
            <a:r>
              <a:rPr b="0" lang="en-US" sz="2200" spc="-1" strike="noStrike">
                <a:solidFill>
                  <a:srgbClr val="000000"/>
                </a:solidFill>
                <a:latin typeface="Gill Sans MT"/>
              </a:rPr>
              <a:t>. N.p., n.d. Web. 14 Oct. 2010. &lt;http://www.roanoke.com/editorial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xisNexis. (2010). Virginia school law deskbook. Charlottesville,VA: Matthew Bender &amp; Company.</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72314"/>
                </a:solidFill>
                <a:latin typeface="Gill Sans MT"/>
              </a:rPr>
              <a:t>Research Question</a:t>
            </a:r>
            <a:endParaRPr b="0" lang="en-US" sz="6000" spc="-1" strike="noStrike">
              <a:solidFill>
                <a:srgbClr val="572314"/>
              </a:solidFill>
              <a:latin typeface="Gill Sans MT"/>
            </a:endParaRPr>
          </a:p>
        </p:txBody>
      </p:sp>
      <p:sp>
        <p:nvSpPr>
          <p:cNvPr id="14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Why Do Teachers/Principals Cheat on High Stakes Tests?</a:t>
            </a:r>
            <a:endParaRPr b="0" lang="en-US" sz="4000" spc="-1" strike="noStrike">
              <a:solidFill>
                <a:srgbClr val="000000"/>
              </a:solidFill>
              <a:latin typeface="Gill Sans MT"/>
            </a:endParaRPr>
          </a:p>
        </p:txBody>
      </p:sp>
      <p:pic>
        <p:nvPicPr>
          <p:cNvPr id="147" name="Picture 5" descr="C:\Users\Byrd family\AppData\Local\Microsoft\Windows\Temporary Internet Files\Content.IE5\LECAD3PS\MP900448524[1].jpg"/>
          <p:cNvPicPr/>
          <p:nvPr/>
        </p:nvPicPr>
        <p:blipFill>
          <a:blip r:embed="rId2"/>
          <a:stretch/>
        </p:blipFill>
        <p:spPr>
          <a:xfrm>
            <a:off x="2819520" y="3124080"/>
            <a:ext cx="4838760" cy="322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17440"/>
            <a:ext cx="380988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CHEATING TEACHERS</a:t>
            </a:r>
            <a:endParaRPr b="0" lang="en-US" sz="3200" spc="-1" strike="noStrike">
              <a:solidFill>
                <a:srgbClr val="572314"/>
              </a:solidFill>
              <a:latin typeface="Gill Sans MT"/>
            </a:endParaRPr>
          </a:p>
        </p:txBody>
      </p:sp>
      <p:sp>
        <p:nvSpPr>
          <p:cNvPr id="149"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marL="44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terary Review</a:t>
            </a:r>
            <a:endParaRPr b="0" lang="en-US" sz="2800" spc="-1" strike="noStrike">
              <a:solidFill>
                <a:srgbClr val="000000"/>
              </a:solidFill>
              <a:latin typeface="Gill Sans MT"/>
            </a:endParaRPr>
          </a:p>
        </p:txBody>
      </p:sp>
      <p:sp>
        <p:nvSpPr>
          <p:cNvPr id="150" name=""/>
          <p:cNvSpPr txBox="1"/>
          <p:nvPr/>
        </p:nvSpPr>
        <p:spPr>
          <a:xfrm>
            <a:off x="457200" y="1828800"/>
            <a:ext cx="8153280" cy="39924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The problem of cheating in order to achieve higher scores and pass rates on high stakes tests has been previously documented in a variety of school systems in both the United States and Australia.  Many of the school systems have shown that there was no obvious underlying reason for cheating on the tests, while others have cheated to obtain a stipend as a part of the reason for distorting their scores.  In certain states, the tenure of a teacher has been made a motivation for high achievement on the states standardized tests.  As a result of these measures there is massive pressure for teachers to achieve proficient test scores set by the state to, in some cases, continue with their current jobs.</a:t>
            </a:r>
            <a:endParaRPr b="0" lang="en-US" sz="1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To resolve these problems certain states have developed means to identify patterns in cheating such as fluctuation in suspicious patterns of student answers.  Some states have developed clear, well publicized anti-fraud policies when test tampering is uncovered. </a:t>
            </a:r>
            <a:endParaRPr b="0" lang="en-US" sz="1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asons for Cheating</a:t>
            </a:r>
            <a:endParaRPr b="0" lang="en-US" sz="4300" spc="-1" strike="noStrike">
              <a:solidFill>
                <a:srgbClr val="572314"/>
              </a:solidFill>
              <a:latin typeface="Gill Sans MT"/>
            </a:endParaRPr>
          </a:p>
        </p:txBody>
      </p:sp>
      <p:sp>
        <p:nvSpPr>
          <p:cNvPr id="15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sure from school/school boar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sure from the State (AYP)</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sure from paren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sure from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ipend attached to scor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Job security (tenu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ays teachers/principals cheat on high stakes tests</a:t>
            </a:r>
            <a:endParaRPr b="0" lang="en-US" sz="3900" spc="-1" strike="noStrike">
              <a:solidFill>
                <a:srgbClr val="572314"/>
              </a:solidFill>
              <a:latin typeface="Gill Sans MT"/>
            </a:endParaRPr>
          </a:p>
        </p:txBody>
      </p:sp>
      <p:sp>
        <p:nvSpPr>
          <p:cNvPr id="15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Giving tests to different groups</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eaching to the test</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irectly  giving answers</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Group testing (oral answers)New York 2000</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racking Students to prevent students from taking tests</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lternative testing (VGLA, VSEP) for those not in need</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PED Read Aloud (answer encouragement)</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hat have schools done to prevent cheating?</a:t>
            </a:r>
            <a:endParaRPr b="0" lang="en-US" sz="3900" spc="-1" strike="noStrike">
              <a:solidFill>
                <a:srgbClr val="572314"/>
              </a:solidFill>
              <a:latin typeface="Gill Sans MT"/>
            </a:endParaRPr>
          </a:p>
        </p:txBody>
      </p:sp>
      <p:sp>
        <p:nvSpPr>
          <p:cNvPr id="15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line tes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ctor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king up all scrap pap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king up cell phon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king test same da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rict regulations attached to chea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ata Collection Summary</a:t>
            </a:r>
            <a:endParaRPr b="0" lang="en-US" sz="4300" spc="-1" strike="noStrike">
              <a:solidFill>
                <a:srgbClr val="572314"/>
              </a:solidFill>
              <a:latin typeface="Gill Sans MT"/>
            </a:endParaRPr>
          </a:p>
        </p:txBody>
      </p:sp>
      <p:sp>
        <p:nvSpPr>
          <p:cNvPr id="15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of Internet Articl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wspaper Articl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V News Repor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uperintendent Memos (VDO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terview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ethodology</a:t>
            </a:r>
            <a:endParaRPr b="0" lang="en-US" sz="4300" spc="-1" strike="noStrike">
              <a:solidFill>
                <a:srgbClr val="572314"/>
              </a:solidFill>
              <a:latin typeface="Gill Sans MT"/>
            </a:endParaRPr>
          </a:p>
        </p:txBody>
      </p:sp>
      <p:sp>
        <p:nvSpPr>
          <p:cNvPr id="160" name=""/>
          <p:cNvSpPr txBox="1"/>
          <p:nvPr/>
        </p:nvSpPr>
        <p:spPr>
          <a:xfrm>
            <a:off x="1434960" y="1447560"/>
            <a:ext cx="7499520" cy="4800600"/>
          </a:xfrm>
          <a:prstGeom prst="rect">
            <a:avLst/>
          </a:prstGeom>
          <a:noFill/>
          <a:ln w="0">
            <a:noFill/>
          </a:ln>
        </p:spPr>
        <p:txBody>
          <a:bodyPr lIns="90000" rIns="90000" tIns="46800" bIns="46800"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Our methodology consists of research through various journal articles, newspaper articles, superintendent memos from the VDOE, and TV news reports.  These variables have already occurred thus are not subject to manipulation.  Supporting data for our study significantly shows there is an ongoing problem that must be addressed as long as the current federal guidelines through NCLB are set forth.</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1:05:49Z</dcterms:created>
  <dc:creator>!Brittany!</dc:creator>
  <dc:description/>
  <dc:language>en-US</dc:language>
  <cp:lastModifiedBy>mshs</cp:lastModifiedBy>
  <dcterms:modified xsi:type="dcterms:W3CDTF">2010-12-08T13:24:15Z</dcterms:modified>
  <cp:revision>36</cp:revision>
  <dc:subject/>
  <dc:title>Coding / Theme</dc:title>
</cp:coreProperties>
</file>